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6CF-358B-4B6D-B8FF-103C37F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7E7-8425-48FE-ABCF-1A4650BC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0D3FA-3E70-4515-8BE9-ECEC5148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FFB1A-665D-464C-9A93-D1DB6A5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E165F-78A9-4863-8920-6EB6540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534A-3454-43E9-9C4F-A82C62F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B3764-EBBE-44DD-98A8-9B34177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1BA9B-5FF5-4210-AC12-E353361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C89CE-3D1C-46A1-862A-228F6EE5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370DF-76CB-4C59-ABC5-898C3C3B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A8329-D694-4D1C-ADDB-93ACEEE9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21CE6-7B34-4B77-8F9B-8B6F9798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274-7E18-4E33-A2C0-F2D0BCC1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8A4D9-DF83-4E72-AFD2-8AC93152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6D078-5630-4891-BD91-3B25886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12404-4987-4BF6-8B31-E29C816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D38F0-6B7C-43B1-94CE-FD348726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F32F-4251-475B-97FD-084465B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0C8B9-5C92-4ED3-ACB9-C56FE22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4691F-5DAE-4E83-8235-B5CF8318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7EAAF-8C3C-444A-8D16-0C70BC76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02A29-B30C-451C-8774-BB84536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C2A3F-14E1-4283-9C10-94448FF6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7EA-1F85-46E3-9DFF-B0FB5A0C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A0C7D-E4AC-4C5E-BA6A-76462B3F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8DC34-AEE7-4EA9-9EA5-DE01F970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676B1-5AA2-47EC-A22A-EC51AA6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E3A97-F09E-4B8A-B230-E57BD27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981D7-425C-460E-94C7-E87E39B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C097A-D73C-49F1-803A-0F218571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2C5D9-DFEC-4092-A665-4E78AD12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A682C-8043-4FBF-8000-06D8C12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E75F0-3AE2-4ADA-835B-CAFCC35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D812C-253C-464C-B326-5F69C653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CA49-41F0-4903-825F-550309FF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ECAF3-900D-4F4B-AEFE-E72D081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6F3C1-53F0-4958-A0B2-EFE09337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779E9-AD4E-4015-A4C7-3A1F268E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21FB9-EB7F-4CF6-A598-58A75CDA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520BC-2B0A-474C-81A1-C412E79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D58DA-5615-4F74-BDF1-07F0B551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A6B8F-7EA6-417A-956A-B6438A4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6C566-5F23-4AE7-8286-4337D4B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D3A04-17A3-4121-A8D3-5001F45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C9221-017C-4312-8469-2FFB08FD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A33-F515-4966-A6DF-E4B1DEA9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95DB6-8366-486C-A2BE-7F5A138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781EC-04B8-424A-8641-9FAB2CEA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71BE6-127B-42A5-A36A-02AF51E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F98D1-52F2-40A3-A516-BEBEB6A9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E9574-F877-4B26-89B4-832D213F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EE382-FFB1-470E-932B-C916E969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92D4C-480C-43F0-8D0D-AD03859B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50768-527B-4C16-AE3A-EDD456EE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16DE5-3840-4948-8900-6155AAE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F6BCA-B097-4CDC-ABFF-06EF31A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B0E-927B-4825-92E0-16294E7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99B97-44F4-42B0-92FA-51B973D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B5919-E51B-4242-B659-2DFA856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82420-91F0-4D1A-8EDE-E6D0C8C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00A6F-E39B-494B-A722-3E42AC1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376B2-6206-49C9-AB35-D3DBA1AC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6BFDD-DF8A-4A27-AF59-32D45DA6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7C92F-A877-4C88-A4C6-71D93DAD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2D276-D13B-4A77-9F0A-A6240489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815F4-B202-49C1-B211-784C77B0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5995B-2F97-4415-BF7C-382792D4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3DB2-AEA8-4F8A-81A0-97B3C177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99D3B-E8A5-4CC4-A95E-EDCD8C49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F0143-7B39-4DD2-B1A6-B67F8A1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59187-214C-414D-B147-24AA2E8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9D8A6-69AB-455E-B85F-EEF7492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4F90E-9FF4-42B3-BE54-66B8C70A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B94E8-70B1-47DE-B409-FCDEE13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396F8-4F9D-4434-BF09-B0E76548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42B27-4904-4169-8F04-4D35EF98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090BF-2A52-479F-817F-CB856B6D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1D141-00A3-4199-8788-B0C0221F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D121-04C6-4198-90E4-6DDD14CD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7D6AF-10EE-48EB-8BAB-26CC032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2B174-3E22-47F7-8B34-E2765E4B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03D3F-68A3-4249-9786-8598FA6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172BA-04C1-4AAD-AC68-8DBF6A45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06763-B560-4B1E-843A-DD3C6998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04172-91A3-4D74-AE2C-161D7F6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FD652-6F4F-460E-8DD6-554D256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4736F-CD34-493D-9B17-28A43C0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FAE1B-60BE-45FD-97D5-2C11551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6E361-7065-4C6F-B291-F38DC457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A1A-ED3A-4770-BE59-4B058456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AED68-925F-4C41-BEFD-5DADD595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B0B63-EF5F-4ECE-AF85-2C46C36B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30AC1-1358-443A-9886-2EB64AA7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F00A0-2D60-4D26-8D42-F0CBF76B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08D35-4040-4CE1-8D63-B6E838D0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AC2FB-7326-4FB8-895E-F2AD4082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8E848-7E34-43BB-9045-F491409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2E598-1886-4256-8ABE-7B98EC1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B557C-F8A4-4073-9477-AC9C8FD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A4F74-298E-4B51-8509-DB1D088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EC8A-9C9C-43C0-BA0A-BFF69702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604B9-8A48-43B6-B4FA-7B63DEC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7E4E1-2742-4C1F-B28B-75EF3A50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C1762-562A-41D6-8B8A-78D68012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5A66E-68F7-4A6A-965A-8C7FAE6B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A8973-7EC7-4480-A06A-20D6F748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C0EEA-8FC1-439F-B4F9-838A3079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3FA86-98D4-4AA1-8CCE-D5B55C2A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B52FD-F581-4232-B4B7-9062FF2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6D444-B79F-4F98-9A52-7B0298D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20B07-CC4A-4368-B61F-65B4E73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4B2-8983-40FB-BD79-639DEC4A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58FA-31D2-417D-A83D-C608111E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8186B-30A0-481F-86A0-2108754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7621C-392E-4866-969B-AF4B450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E6E0D-2663-4DBD-92C1-0785D96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DC2BD-CDE8-4E44-8363-83B20599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B64A9-791B-48F5-8E0F-547AA16F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0D515-9EA3-4074-800C-02E1097B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1ACDA-2B57-4792-879F-C1965B9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AFBCC-9ACE-4D8A-B4F7-88A42AE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572FE-745F-4595-839E-46A901F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9718D-7D0D-4664-A4B1-1D67FB3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D7E-94CF-4058-B40A-5D23505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8C0D7-550C-4A56-A85D-E1C5D52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DA2EF-6FEE-4EF6-8270-91C4907D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20691-F262-4831-BB66-F9BFC4D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F7461-ED87-473C-BBC7-9665EE1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A877B-A765-412D-A17D-866602E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37854-67D8-42CF-BBCA-DD040CC2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CA67B-AC56-43F4-A77C-04574564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F53EB-B2B3-4A5F-B663-D5FC1293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DCDD5-C2F1-46AE-A28E-2CC5D304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C8D80-039D-4C1F-8B67-E44E4A8D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45D-B8FE-4822-B779-A2BC8C58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2C412-B401-41A3-93C9-C36CABF4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34B4D-BE94-4575-9D5B-3A8E7E6A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4DC32-4B9C-42AD-A5A5-127C08F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689DF-51E5-436A-97B3-D84B772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E49B8-0E7E-4857-9C5F-0AD2392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94513-8715-4B8C-B013-7541564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A28A7-86C1-4501-AB1F-7E46441F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BBC2B-E4E4-4986-95E9-A36EE30E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B5F31-63D1-4EDB-83C1-07E95C18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20B9DC-72CE-4E15-BB3E-ABE5D379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D513-AD27-4F9C-A904-8C8507CD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B844F-82A4-4CA5-9608-5C401E22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BB704-7141-4450-85DD-48C7F3DB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65924-5506-4012-A102-62F1F0D2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4266C-D1B9-48ED-9680-85263C1C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EE7D8-8AC6-4CFF-9897-E1498B17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7D733-63A3-4BE5-90CC-1F62BC2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394F37-8D02-46FC-BDB2-DBA8AD8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35BF0-E253-434B-8535-9DE32F9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34E45-E04A-40BD-91DB-5AEC1B4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EC381-8FDF-4414-A83C-E75AD75E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7D59-F18A-4CDB-85C0-3E9DFA9C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055B4-7058-4FC4-AEA0-78173138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28F79-6F0A-48E6-B314-33CDEE47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C2936-537D-4957-9C1D-2C1F2F2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D7022-570D-47A9-B4A2-EBD61F3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95491-2085-447F-8CFD-10A5E3A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11D61-A260-47B9-B5C6-515F9F22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061DB-83E3-4EFF-9CB5-7DB31A5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D1E39-C4CF-45D2-9165-1327C09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67102-1E7F-4C2D-B7D5-071A059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E77F2-3AB3-470F-A3E3-F2B4058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1340C-84B1-4B8F-A7B6-4D975412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8D494-1E26-4187-A568-9F03BDA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C4AE0-7C7A-4279-BC65-3C07747A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70165-B269-4EB5-A010-C8F2C82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E213-2867-4C8B-946A-D72A280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FFE3-79B1-45A9-A44A-7BB3581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13E6-6169-4875-8B00-395F8707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AE55-B9B8-458F-8C9F-C06719D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2E2-42A8-4E7C-A427-B7B63CBC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C4D2-A1AB-429D-AF14-8196F317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CB15-EF52-4137-B2CE-0AE6794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C311-F911-4F3B-A541-6DCAE48C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A497-B8A7-4510-92CF-C6B16CC8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E71D-3027-4790-9942-76A6ABA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2BEA-7E32-4C50-A777-BEC450C5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33D2-0C29-439C-97DA-8F7856FB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3F70-3208-4A7F-A12B-124EC5F8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35224-C16E-4B49-B10D-A7F66A0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531C-554C-4F16-B4CA-4B82775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A45-F2B8-4901-B882-0FF5AFF1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4D59-6979-4E02-81F1-8D0ECD7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131B-285D-4967-B154-B8F85109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8E44-75DC-4579-A623-06CFE4B9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2C9A-B6D7-47EC-BCF1-A67F860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8056-54A2-4070-A959-CA02E00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A212-2AE9-44ED-9FA7-5FA19F0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61F7-312D-4152-A3A7-DBCD4AB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92B3-5FC1-42E2-A78E-97CECF06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268E8-7FEC-4081-A150-9EBE4DBD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416D-AF17-4724-B505-439C8094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44E-CDE9-4F9B-8541-7042144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91C2-B0EC-41ED-B6DE-523CC71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E863-DCE5-459C-933B-D66780F9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75DB-50D6-4210-B4E2-6A22AEE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F810-774A-435E-93B8-360716C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14EE-2ED2-482C-83AF-D4B108DC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29A2E-260B-433C-91BD-4D2D354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CFDCC-28C6-4D0B-AC9C-9428CC3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E070-9F18-4283-B2F2-E95366A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7AD4-C7C7-4817-990F-FF20A82C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8479-2F4A-42EB-9270-56071B77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598-AEE2-49AE-8B9D-3DF96828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9CDA-8EDE-4CAC-A4FA-AD48BE87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C1EA-B652-4C2C-92D2-D953EEA0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F268C-18B1-4958-9440-62B2672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826D-373C-4D09-A690-D99E731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88C3-AECD-42BC-AA6A-F3CA465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48A8-DE70-4129-9F9D-C3ABCC7D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1C5C0-C34D-4A79-8F77-76F45739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8374-DA29-478D-BF63-B903C9A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D96A-642F-484F-A6D5-0B58D7C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95D8-95B8-4967-A818-69CBDD8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E6E-75DD-4B43-A067-EF201E70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96562-8AA8-405B-A645-85CDDCC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FF9AB-9730-40EE-B9CB-D4A087DF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123D-9FE0-41E1-B0E0-E3CB4A91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CD681-6513-433E-9970-D2448EEE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E4925-5D24-4D0A-8439-C80DA47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E7BFA-43E1-45A6-A551-3C857A8F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25CE0-327F-43B4-825C-B928028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8EAF-D6FB-4660-BAB6-60E3B0F7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1667B-FAF3-42EE-86C7-8089870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822B1-8064-4827-B81A-F56D56F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4AA-45A5-49E5-B7BF-607A3EA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19A4-0BD6-47E2-87E9-CB1F0FA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D4FB-D6ED-4CDD-B761-0DD42C1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3495-7EC4-4012-8183-88327162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AAF7-DF03-43ED-8DC9-6E1CE40A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4869-2290-4811-A643-79810848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5B42-3583-4934-93E4-10562D6C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DBB6-F11A-4952-B24C-862E43F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9983B-BD36-4B1F-91B3-D0EFBB4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5F56-4BAD-4C4D-9C26-1BE4B381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8BE70-4093-4885-8530-C5D7156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574-22E3-46F5-8E9D-D6E59E9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1424-7498-4AB6-B6D4-9A9D979C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508D-15F8-4E1E-B255-54F6E01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06AA9-886F-4691-9816-C3D3EF51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66B2C-7171-4AFD-BA6D-768322D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54F0-02C8-4795-B1DE-61ADA84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CE44-197F-44B6-8433-27DDCE20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DA01-D507-4A2D-861B-77AA03AF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4C77-0D1E-4599-AE4A-FC34DE64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2E72-3D0B-44A8-845D-1008BA0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FB32F-5C21-4593-98CF-984091A5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374-1597-41D7-91A3-210C88EB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1CC1-A58D-4CF2-9CBA-B5D91B79E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135E-6D2F-4177-A008-A71C6CE76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0FA4-7457-4ADD-97E3-578D18F95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F57C-1BC5-404C-965A-B19F0438C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5F80-397D-427C-8A7B-EC288A9BC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BE4E-63E8-4E36-8B3C-E14CF6F3E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FF61-E62E-40A3-B292-DD1EE8381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258-A959-4D42-8D7B-954DD5E8B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8E62-ACFA-4C0F-BE87-9353EDC35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04B-0517-4705-A9D3-C6A3FC5882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03B-60A5-4662-9343-7E5F6E4B0E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C23-A082-4B40-A4D0-082CE4464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01E-7A37-4192-9424-431276DAB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987-904E-408F-B53D-7F23EE43D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92D-8A21-43D0-AFEB-8D27273531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ADB-A88E-493F-AEEC-B17F2FE5A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CF80-6A0C-4E83-BC2D-F8D76DDA5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D1AD-1B3B-4979-862C-B04042030D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6BC4-F548-4330-B118-263F37E97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A93-03F3-4CFF-B2E5-58FCF9B89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42B5-E003-4EB4-B8A5-E73C9F5403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1A0D-E559-4E93-8DB0-66A8F6257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8B7-29E9-4DA9-94D0-D888A027E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110-A8A3-49FE-9778-05B53CB9F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826C-18FB-4852-8F20-CFCC1F4D3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A8DB-54B5-43DB-B758-E5DAC9BAB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EA34-7FD6-40FD-9E28-0B83902A2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6A0E-4269-42D8-805E-9FAABDC7A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3E3-2ED4-4D50-B672-94C64B866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FB3-0E2C-4A69-BC31-5EF4C4BC7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DF7C-2863-499F-9CEF-52852EE4C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03A-5578-4B96-9DB8-066E2308F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453-0C1B-45C1-931E-8CDB7A6BE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E1DA-CD59-4D4D-91A1-E97BE4295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0FE-009A-4D0B-9F2B-B8531F68F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D3F0-E58F-4399-83CF-BC6D2632D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0BC-9F03-4539-A022-B12438851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B44-A60C-4372-8F64-B6E29865FA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3E3-3A06-432A-BAA8-92E0912A18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714760" y="2428920"/>
            <a:ext cx="3381120" cy="5238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143080" y="3500280"/>
            <a:ext cx="4962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677000" cy="4905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2"/>
          <a:stretch/>
        </p:blipFill>
        <p:spPr>
          <a:xfrm>
            <a:off x="479520" y="2373480"/>
            <a:ext cx="8184960" cy="392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3"/>
          <a:stretch/>
        </p:blipFill>
        <p:spPr>
          <a:xfrm>
            <a:off x="463680" y="2930400"/>
            <a:ext cx="8183520" cy="3924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4"/>
          <a:stretch/>
        </p:blipFill>
        <p:spPr>
          <a:xfrm>
            <a:off x="447840" y="355932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5"/>
          <a:stretch/>
        </p:blipFill>
        <p:spPr>
          <a:xfrm>
            <a:off x="430200" y="411804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6"/>
          <a:stretch/>
        </p:blipFill>
        <p:spPr>
          <a:xfrm>
            <a:off x="414360" y="467532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7"/>
          <a:stretch/>
        </p:blipFill>
        <p:spPr>
          <a:xfrm>
            <a:off x="541440" y="5232240"/>
            <a:ext cx="81835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6495840" cy="4533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2"/>
          <a:stretch/>
        </p:blipFill>
        <p:spPr>
          <a:xfrm>
            <a:off x="549360" y="1428840"/>
            <a:ext cx="8184960" cy="887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479520" y="2368440"/>
            <a:ext cx="8184960" cy="392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4"/>
          <a:stretch/>
        </p:blipFill>
        <p:spPr>
          <a:xfrm>
            <a:off x="463680" y="2930400"/>
            <a:ext cx="8183520" cy="392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5"/>
          <a:stretch/>
        </p:blipFill>
        <p:spPr>
          <a:xfrm>
            <a:off x="590400" y="3559320"/>
            <a:ext cx="8183880" cy="392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6"/>
          <a:stretch/>
        </p:blipFill>
        <p:spPr>
          <a:xfrm>
            <a:off x="574560" y="411804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7"/>
          <a:stretch/>
        </p:blipFill>
        <p:spPr>
          <a:xfrm>
            <a:off x="557280" y="460368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8"/>
          <a:stretch/>
        </p:blipFill>
        <p:spPr>
          <a:xfrm>
            <a:off x="611280" y="5234040"/>
            <a:ext cx="81835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966960" y="1743120"/>
            <a:ext cx="7210080" cy="3371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2"/>
          <a:stretch/>
        </p:blipFill>
        <p:spPr>
          <a:xfrm>
            <a:off x="479520" y="2368440"/>
            <a:ext cx="8184960" cy="392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3"/>
          <a:stretch/>
        </p:blipFill>
        <p:spPr>
          <a:xfrm>
            <a:off x="463680" y="295596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4"/>
          <a:stretch/>
        </p:blipFill>
        <p:spPr>
          <a:xfrm>
            <a:off x="590400" y="3559320"/>
            <a:ext cx="8183880" cy="392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5"/>
          <a:stretch/>
        </p:blipFill>
        <p:spPr>
          <a:xfrm>
            <a:off x="574560" y="411804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6"/>
          <a:stretch/>
        </p:blipFill>
        <p:spPr>
          <a:xfrm>
            <a:off x="557280" y="4603680"/>
            <a:ext cx="81835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8010720" cy="3772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2"/>
          <a:stretch/>
        </p:blipFill>
        <p:spPr>
          <a:xfrm>
            <a:off x="479520" y="2144880"/>
            <a:ext cx="8184960" cy="392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3"/>
          <a:stretch/>
        </p:blipFill>
        <p:spPr>
          <a:xfrm>
            <a:off x="463680" y="270684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4"/>
          <a:stretch/>
        </p:blipFill>
        <p:spPr>
          <a:xfrm>
            <a:off x="590400" y="3336840"/>
            <a:ext cx="8183880" cy="3906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5"/>
          <a:stretch/>
        </p:blipFill>
        <p:spPr>
          <a:xfrm>
            <a:off x="574560" y="389412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6"/>
          <a:stretch/>
        </p:blipFill>
        <p:spPr>
          <a:xfrm>
            <a:off x="557280" y="4379760"/>
            <a:ext cx="8183520" cy="392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7"/>
          <a:stretch/>
        </p:blipFill>
        <p:spPr>
          <a:xfrm>
            <a:off x="479520" y="2154240"/>
            <a:ext cx="818496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8"/>
          <a:stretch/>
        </p:blipFill>
        <p:spPr>
          <a:xfrm>
            <a:off x="463680" y="271620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9"/>
          <a:stretch/>
        </p:blipFill>
        <p:spPr>
          <a:xfrm>
            <a:off x="590400" y="3273480"/>
            <a:ext cx="8183880" cy="392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10"/>
          <a:stretch/>
        </p:blipFill>
        <p:spPr>
          <a:xfrm>
            <a:off x="574560" y="383076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11"/>
          <a:stretch/>
        </p:blipFill>
        <p:spPr>
          <a:xfrm>
            <a:off x="557280" y="4316400"/>
            <a:ext cx="81835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576360" y="1305000"/>
            <a:ext cx="7991280" cy="42480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2"/>
          <a:stretch/>
        </p:blipFill>
        <p:spPr>
          <a:xfrm>
            <a:off x="479520" y="1930320"/>
            <a:ext cx="8184960" cy="390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3"/>
          <a:stretch/>
        </p:blipFill>
        <p:spPr>
          <a:xfrm>
            <a:off x="463680" y="249228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590400" y="3048120"/>
            <a:ext cx="8183880" cy="465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574560" y="3678120"/>
            <a:ext cx="8183520" cy="392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6"/>
          <a:stretch/>
        </p:blipFill>
        <p:spPr>
          <a:xfrm>
            <a:off x="557280" y="416412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7"/>
          <a:stretch/>
        </p:blipFill>
        <p:spPr>
          <a:xfrm>
            <a:off x="384120" y="4713120"/>
            <a:ext cx="818352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362720" cy="5753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2"/>
          <a:stretch/>
        </p:blipFill>
        <p:spPr>
          <a:xfrm>
            <a:off x="479520" y="1571760"/>
            <a:ext cx="8184960" cy="390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3"/>
          <a:stretch/>
        </p:blipFill>
        <p:spPr>
          <a:xfrm>
            <a:off x="352440" y="2144880"/>
            <a:ext cx="8184960" cy="392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4"/>
          <a:stretch/>
        </p:blipFill>
        <p:spPr>
          <a:xfrm>
            <a:off x="392040" y="263052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5"/>
          <a:stretch/>
        </p:blipFill>
        <p:spPr>
          <a:xfrm>
            <a:off x="264960" y="3205080"/>
            <a:ext cx="818388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6"/>
          <a:stretch/>
        </p:blipFill>
        <p:spPr>
          <a:xfrm>
            <a:off x="447840" y="3851280"/>
            <a:ext cx="8183520" cy="3906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7"/>
          <a:stretch/>
        </p:blipFill>
        <p:spPr>
          <a:xfrm>
            <a:off x="320760" y="4495680"/>
            <a:ext cx="8183520" cy="392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8"/>
          <a:stretch/>
        </p:blipFill>
        <p:spPr>
          <a:xfrm>
            <a:off x="430200" y="512604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9"/>
          <a:stretch/>
        </p:blipFill>
        <p:spPr>
          <a:xfrm>
            <a:off x="447840" y="5699160"/>
            <a:ext cx="8183520" cy="392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10"/>
          <a:stretch/>
        </p:blipFill>
        <p:spPr>
          <a:xfrm>
            <a:off x="501480" y="6257880"/>
            <a:ext cx="81853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1285920" y="928800"/>
            <a:ext cx="5086440" cy="2228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2"/>
          <a:stretch/>
        </p:blipFill>
        <p:spPr>
          <a:xfrm>
            <a:off x="378000" y="990720"/>
            <a:ext cx="8184960" cy="390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3"/>
          <a:stretch/>
        </p:blipFill>
        <p:spPr>
          <a:xfrm>
            <a:off x="361800" y="1619280"/>
            <a:ext cx="8183880" cy="828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4"/>
          <a:stretch/>
        </p:blipFill>
        <p:spPr>
          <a:xfrm>
            <a:off x="485640" y="2664000"/>
            <a:ext cx="81835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1:48:05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